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B11-20FB-45D9-8851-544626CA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D35-FA62-4C68-9686-7013CFA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AD032-BE29-4DE9-9B15-27B3788A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E21A9-77E9-43F1-9BE6-8CF4020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E62D-4EE2-49A0-B2A9-1BB6921F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64B41-9E7D-42D8-A263-C410381A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EBE85-B6F1-4929-8072-CE88A34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6B9F1-644C-477C-B081-3E8435A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9FD4F-52E0-4741-B7F3-67825B56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C9A1-F07D-44D2-AA8B-A6A0AEE9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36353-D4AE-44FD-873D-90AB42B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97DFE-453F-43AA-AD16-3ED13EF9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E7D-FA34-4335-9F4A-A0306466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E454A-EA5F-4E75-99CE-8C689DAC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745D0-7ABF-4335-B207-CD2CBA1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D85A2-3129-405F-B071-FA11DE2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FE989-039A-4245-9A4D-9A9A82E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80A63-2FF9-4EF8-9989-1F72864F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10D5-2911-4EE9-BCBC-0232D8F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E93E4-3FD2-4C8D-801E-57DB73A9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52D8A-7E98-480B-A3CD-86967DA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C41D-93AF-49A3-A867-1115116F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E0CEB-C536-4844-9FC1-066A9574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287-69B3-419E-B556-5381100E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0D7EC-B1F2-464C-B5E5-A7323544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D445B-4AE6-4856-8F54-E45E75FA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80551-81E8-48C6-A9C8-E7C3FDC5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970FC-3DEF-472C-8CB6-A62D74EA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67FA9-2D3B-4759-951F-5B3C1ECE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D3AC7-0B2B-499A-9216-9F0B12D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F7104-81C6-4672-9FD0-585AC2E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3AA2D-0E5A-4C60-9384-416C614C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CF204-B7AD-4991-8B9C-E53AA764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FE657-1AAD-4AC2-8A22-48814BF7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B5A6-1C5C-4978-A8D0-E79C995D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0C785-0B80-485D-97FE-8DB9AF3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2C9B6-944C-4236-9CFC-44F6B5F7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46372-5A5E-42B8-9991-BC2E42AE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8B099-46D2-4E96-867F-C36D914D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775D0-05C1-43B1-A988-27319BA6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210A7-0BE7-4ABF-8C31-18196668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D6CE6-D177-4EE1-8BC7-AAFCA91A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74C18-8F05-4E94-939E-D9644D95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9C70F-27A7-47FF-A85A-B08ABDC7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192DA-67C8-4EA6-8CA1-E24C82EB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1DE0-4EE8-4215-867C-8B2688E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6BDF4-9226-4C6D-B42A-91BBD81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F112D-9B8B-4217-8663-72DB5A0F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E0E43-30BE-4B48-849A-ED70FB8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F6873-9809-4774-942B-23AB22F6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94522-A0CC-42C5-B267-43CAE122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8D4E92-187F-4EF2-A2E5-FA56FD4B78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B2AC81-B55F-4CFC-ADA5-AC42481BF30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371451-2BED-410F-91FC-84E84CC07B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C47C633-8BD8-4560-8869-EB192AE9E82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ABE7CA-6A0B-4613-8D7E-DA68BFBEEA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7805-F192-4486-896A-76538CAC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7484DF-B354-444C-91BB-A6F0EAB028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55EEFA-43F4-47C5-8643-B5724D8C98D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08C4F4-9492-4CA0-85F5-ABD55264F1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E1A512-A35C-41A6-9450-F761ED3AF30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7943B1-1634-4FCD-BF56-D2CBB22387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90E9CE5-CF3C-4723-9637-571BD60E797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5500FB-A891-46B1-8283-AFDCAB6288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EAF2-DA39-48F1-927B-A45B6D8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7BBE-46A3-4D66-A3A0-23FE38A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6FCD-A75E-421E-AF43-647B0211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CE9F-D3EE-441C-A947-7928CBFA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935-45F7-4D94-AC38-DEB2039F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0DBA-3469-4B7D-BDB8-01A097E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CF9A-3AD4-47EC-A9D5-C823A945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D45A-5ECB-4EAE-92A5-36B6E6F3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9B99-1CAD-42DB-9BC6-F4F44DA3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157-2E5F-4BB8-A676-18A1B603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2168-9FDE-4718-8B3A-B02A15B9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76A1-8A17-41A7-899B-B70EDECB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0449-2583-43F9-8B2B-DE1B2FA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FAA99-E583-490C-8444-F26FC5F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4A6C-E3A5-467F-B56A-E0B4FEA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4E5-3FC6-4676-B6E2-5AFDEB5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5F62-BC7C-41D1-A925-7F5801D2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D5A7-AFE5-4ACC-93D4-D2671DCE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C929F-6B9B-40FE-B5BC-0FA677B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87B3-594B-4B05-B146-A7D1A0E4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FB7D-4199-4950-9502-EC28BDC5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03F8-F00D-4078-A1CC-B7866EDC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2B8D-FD55-412B-BAE1-C6CE669D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69B30-FDF1-4FBC-85B1-73B53B40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A1BF-DA23-4ABF-A6EF-E311397E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FF79-9D3A-428F-B441-D17CD63A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373-FEEE-4035-982C-5D9110F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6E46-135F-49A2-B073-E99191B0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DD61-32A7-41C9-AF9B-E619593E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B052-FDD6-4C12-8226-C25AB791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0109E-56FC-4DC3-996E-4B3932A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03995-590A-4B37-A195-B6D63E9A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83C32-6083-4309-9E93-D85B88D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4418-CA07-4E4D-989D-0A69F965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6077-EED5-406B-A117-D9B0A37F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B199-98A2-4E7E-9956-275DCEF1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380E-0090-4A5C-B6EE-4F79EFCA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A95-E2C9-42EF-8639-670096A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93E8-C5EF-4DEB-B7AB-32F959D2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4A0F-AEA3-4B0C-93C4-9ADB745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79A30-DCFF-4917-A953-4389B88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132E-A912-4022-827E-3A4A1777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7F28-D4DD-47D8-999B-8175FDA2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CD7E2-072B-4174-882E-D5F8D80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88706-76B4-49F8-99EF-D7BA4529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F76B-91FD-4C0F-AF13-BF02270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6338-3CBF-48F1-8643-F6411EF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FB72-CE07-46CA-8D41-AD5AE0A3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251B-CCDB-4519-A710-E43D4F1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DB00-ADD2-4926-8415-E1554660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4CD1-7C50-457D-83DA-08D63EBF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D23BE-61D2-4C35-883C-7BEE9D54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E02CE-BEAD-4AFA-9B1F-88F0288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B0E5-69DE-419C-827B-0D3BE102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914DB-0905-4405-8099-55F8A60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F1866-3D46-4D30-9033-07B099AA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1AA49-30A4-4119-BF05-8FB0D792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3CD01-8C59-461E-9ECF-45C862E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BDC5C-9AD1-4AF9-A98D-0A76FFC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332-518C-41B5-B507-8EEAAD63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55125-FF9B-4A9A-83B8-F3580D3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D97C5-A242-44C3-A9B8-77973408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26B34-968C-470B-9EBB-258A54BF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3AC33-43F6-4027-8E18-A88C9B0C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5359E-0A3C-4FFC-BCFC-6D267253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0B396-5678-4E58-A24A-AB093A4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24E44-4712-47C2-85FA-D77E386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8F1C-0741-4714-842A-ACE8F601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0310C-28A3-443E-8E1B-446A2F5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7A84-B4C6-4DF5-9092-6BBA06CD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08F-F885-4BEE-96F3-40047F2D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5BD38-F4DD-49D5-947C-101CCE5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2A335-6568-4706-A195-DFC9CCB2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51B6E-61D5-4746-9E03-0082F5CD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3A09F-C7D1-4E08-B808-9BA1437B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9A2CA-1426-4340-BBBF-E9A24847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FB4A6-8C25-4121-B1B5-29E7CB43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23124-88AE-4B0A-8346-F79C5ADC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263B7-9BB3-4F0F-9317-BA811E36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2F7DE-1154-4228-B76C-93BD5E58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7D9C6-7052-4A9E-A26F-253924E8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94E-FD0B-4876-81EE-063434E0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06280"/>
            <a:ext cx="74995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96725-48CA-4980-872B-C6C4BB6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B1183-CFAF-44B4-B85A-6D6E929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6A311-04A7-4E63-A856-E2D1D720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5D1AC-8A23-443A-808D-43134AF8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2966400"/>
            <a:ext cx="7499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0AA89-D59E-4F1A-A4C2-5BDBEFA1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08576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2966400"/>
            <a:ext cx="365976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C765F-15AE-4AFC-9DF9-C2333646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08576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2966400"/>
            <a:ext cx="241452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01E9D-5653-45D2-8E09-C29E2A31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9AAAE-F53D-464C-A694-57AD43DD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0771F-DF69-459F-B26B-62EF8CA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32DB3-BBD6-47F3-AC72-BB613E9B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2D31-982E-4FDC-B877-358558DF72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706320"/>
            <a:ext cx="4797720" cy="3657600"/>
            <a:chOff x="652320" y="706320"/>
            <a:chExt cx="4797720" cy="36576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706320"/>
              <a:ext cx="47977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800280"/>
              <a:ext cx="457200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720" y="716040"/>
            <a:ext cx="68580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280" y="703080"/>
            <a:ext cx="649440" cy="1522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97D9-3D19-428A-89DA-4C05003DC78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61B5-8620-47C9-B395-6F066E52526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482-AE85-4FC7-AC9C-2327861AE7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CAFC-1DA5-4C87-BED5-14BC34A56A5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060560"/>
            <a:ext cx="218880" cy="164880"/>
            <a:chOff x="920880" y="1060560"/>
            <a:chExt cx="218880" cy="16488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060560"/>
              <a:ext cx="218880" cy="16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82520"/>
              <a:ext cx="1490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00800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254-BE72-48F6-96A5-FC5DD4BDD8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A52E-D51D-4683-A709-B20414F83C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109960"/>
            <a:ext cx="219240" cy="163440"/>
            <a:chOff x="2170080" y="2109960"/>
            <a:chExt cx="219240" cy="16344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109960"/>
              <a:ext cx="21924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133720"/>
              <a:ext cx="14760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058840"/>
            <a:ext cx="63360" cy="4932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021A-5300-47D1-87F0-1C6AF93ED7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E6DB-C1D4-4766-83AD-F6326EF0C8C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537-FDF1-494B-9809-9F24AC1C724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611280"/>
            <a:ext cx="1638360" cy="1228680"/>
          </a:xfrm>
          <a:custGeom>
            <a:avLst/>
            <a:gdLst/>
            <a:ahLst/>
            <a:rect l="l" t="t" r="r" b="b"/>
            <a:pathLst>
              <a:path w="1638887" h="1229165">
                <a:moveTo>
                  <a:pt x="1638887" y="614583"/>
                </a:moveTo>
                <a:cubicBezTo>
                  <a:pt x="1638887" y="808092"/>
                  <a:pt x="1517370" y="990299"/>
                  <a:pt x="1310915" y="1106359"/>
                </a:cubicBezTo>
                <a:cubicBezTo>
                  <a:pt x="1169004" y="1186135"/>
                  <a:pt x="996414" y="1229228"/>
                  <a:pt x="819064" y="1229166"/>
                </a:cubicBezTo>
                <a:cubicBezTo>
                  <a:pt x="819191" y="1024305"/>
                  <a:pt x="819317" y="819444"/>
                  <a:pt x="819444" y="614583"/>
                </a:cubicBezTo>
                <a:lnTo>
                  <a:pt x="1638887" y="614583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15840"/>
            <a:ext cx="1703520" cy="127656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219240" y="719280"/>
            <a:ext cx="1060200" cy="993600"/>
            <a:chOff x="219240" y="719280"/>
            <a:chExt cx="1060200" cy="9936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19240" y="719280"/>
              <a:ext cx="10602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912600"/>
              <a:ext cx="7952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6E4-ACC1-40D6-A872-B885E4FAD7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A82-67FE-4946-BE52-61C7616347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06280"/>
            <a:ext cx="7499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085760"/>
            <a:ext cx="74995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797040" indent="-20556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987120" indent="-15552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167120" indent="-16416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167120" indent="-16416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472932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4729320"/>
            <a:ext cx="28954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4729320"/>
            <a:ext cx="457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FE0A-75AE-485E-A8F0-5C90FCE52A3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doc.fipi.ru/navigator-podgotovki/navigator-ege/MR_rus_yaz_ege_2024.pdf" TargetMode="External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Прямоугольник 1" descr=""/>
          <p:cNvPicPr/>
          <p:nvPr/>
        </p:nvPicPr>
        <p:blipFill>
          <a:blip r:embed="rId1"/>
          <a:stretch/>
        </p:blipFill>
        <p:spPr>
          <a:xfrm>
            <a:off x="1206360" y="609480"/>
            <a:ext cx="7705800" cy="264024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2"/>
          <p:cNvSpPr/>
          <p:nvPr/>
        </p:nvSpPr>
        <p:spPr>
          <a:xfrm>
            <a:off x="1287360" y="3417840"/>
            <a:ext cx="624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Учимся с ребятами видеть части слова  (морф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Ориентируемся в членах предложения, частях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Google Shape;188;p2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Google Shape;189;p29"/>
          <p:cNvSpPr/>
          <p:nvPr/>
        </p:nvSpPr>
        <p:spPr>
          <a:xfrm>
            <a:off x="0" y="215568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Google Shape;190;p29"/>
          <p:cNvSpPr/>
          <p:nvPr/>
        </p:nvSpPr>
        <p:spPr>
          <a:xfrm>
            <a:off x="1403280" y="533520"/>
            <a:ext cx="7263000" cy="34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е момен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 одном варианте КИМ схожих примеров, например: 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Все, кто интересуется историей старинных орденов и медалей, обращает на них внимание при рассмотрении портретов выдающихся деятелей прошлого. – Тот, кто умеет планировать свое время, успевает сделать гораздо больше других людей 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(в обоих предложениях представлена «схожая» связь между подлежащим и сказуемым, однако только в одном, первом, предложении данная связь нарушена, то есть содержит грамматическую ошибк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аличие внутри одного примера «конкурирующих» элементов, например: </a:t>
            </a:r>
            <a:r>
              <a:rPr b="1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 завершении научного исследования будет опубликована статья в журнале «Наука и жизнь».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и</a:t>
            </a: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ли </a:t>
            </a:r>
            <a:r>
              <a:rPr b="1" i="1" lang="ru-RU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Некоторые итоги исследования древнерусских сельских поселений подведены в сборнике «Археология севернорусской деревни X–XIII веков», недавно выпущенном в издательстве «Наук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Google Shape;196;p3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Google Shape;197;p30"/>
          <p:cNvSpPr/>
          <p:nvPr/>
        </p:nvSpPr>
        <p:spPr>
          <a:xfrm>
            <a:off x="0" y="24321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Google Shape;198;p30" descr=""/>
          <p:cNvPicPr/>
          <p:nvPr/>
        </p:nvPicPr>
        <p:blipFill>
          <a:blip r:embed="rId1"/>
          <a:stretch/>
        </p:blipFill>
        <p:spPr>
          <a:xfrm>
            <a:off x="1127160" y="139680"/>
            <a:ext cx="75405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Google Shape;212;p3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Google Shape;213;p32"/>
          <p:cNvSpPr/>
          <p:nvPr/>
        </p:nvSpPr>
        <p:spPr>
          <a:xfrm>
            <a:off x="0" y="2308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Google Shape;214;p32" descr=""/>
          <p:cNvPicPr/>
          <p:nvPr/>
        </p:nvPicPr>
        <p:blipFill>
          <a:blip r:embed="rId1"/>
          <a:stretch/>
        </p:blipFill>
        <p:spPr>
          <a:xfrm>
            <a:off x="1378080" y="433440"/>
            <a:ext cx="7497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Google Shape;228;p3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Google Shape;229;p34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Google Shape;230;p34" descr=""/>
          <p:cNvPicPr/>
          <p:nvPr/>
        </p:nvPicPr>
        <p:blipFill>
          <a:blip r:embed="rId1"/>
          <a:stretch/>
        </p:blipFill>
        <p:spPr>
          <a:xfrm>
            <a:off x="1103400" y="328680"/>
            <a:ext cx="7583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Google Shape;244;p3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Google Shape;245;p36"/>
          <p:cNvSpPr/>
          <p:nvPr/>
        </p:nvSpPr>
        <p:spPr>
          <a:xfrm>
            <a:off x="0" y="22813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Google Shape;246;p36"/>
          <p:cNvSpPr/>
          <p:nvPr/>
        </p:nvSpPr>
        <p:spPr>
          <a:xfrm>
            <a:off x="1447920" y="271440"/>
            <a:ext cx="751824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 внимание н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выборе гласной в формах прошедшего времени (учащиеся определяли спря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в глаголах-исключениях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стелить, ненавидеть, гнать)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, а также причастиях и деепричастиях, образованных от 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9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неверно восстановленный инфинитив </a:t>
            </a:r>
            <a:r>
              <a:rPr b="0" i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(молоть – мелЕТ, брезжить – брезжУЩий, движИм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цЕлУЮ     мИл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tserrat"/>
                <a:ea typeface="Montserrat"/>
              </a:rPr>
              <a:t>Выспишься (2 сп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Montserrat"/>
              </a:rPr>
              <a:t>«Опасные» слова: раскле..шь, колебл..шься, (кузнечик) стрекоч..т, (снега́) припорош..т; рыщ..щие (волки), хлещ..щие (струи), руш..щееся (здание); неприемл..мый, немину..мый; зачист..вший (напильником деталь); рассе..нный, сдерж..нное (обещание), пересуш..нное (белье), насто..нное (снадобье); обид..вши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Google Shape;260;p3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Google Shape;261;p38"/>
          <p:cNvSpPr/>
          <p:nvPr/>
        </p:nvSpPr>
        <p:spPr>
          <a:xfrm>
            <a:off x="0" y="19526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Google Shape;262;p38" descr=""/>
          <p:cNvPicPr/>
          <p:nvPr/>
        </p:nvPicPr>
        <p:blipFill>
          <a:blip r:embed="rId1"/>
          <a:stretch/>
        </p:blipFill>
        <p:spPr>
          <a:xfrm>
            <a:off x="1414440" y="1328760"/>
            <a:ext cx="7236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Google Shape;268;p39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Google Shape;269;p39"/>
          <p:cNvSpPr/>
          <p:nvPr/>
        </p:nvSpPr>
        <p:spPr>
          <a:xfrm>
            <a:off x="0" y="2325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oogle Shape;270;p39" descr=""/>
          <p:cNvPicPr/>
          <p:nvPr/>
        </p:nvPicPr>
        <p:blipFill>
          <a:blip r:embed="rId1"/>
          <a:stretch/>
        </p:blipFill>
        <p:spPr>
          <a:xfrm>
            <a:off x="1352520" y="274680"/>
            <a:ext cx="7394760" cy="3736800"/>
          </a:xfrm>
          <a:prstGeom prst="rect">
            <a:avLst/>
          </a:prstGeom>
          <a:ln w="0">
            <a:noFill/>
          </a:ln>
        </p:spPr>
      </p:pic>
      <p:sp>
        <p:nvSpPr>
          <p:cNvPr id="650" name="Прямоугольник 5"/>
          <p:cNvSpPr/>
          <p:nvPr/>
        </p:nvSpPr>
        <p:spPr>
          <a:xfrm>
            <a:off x="1295280" y="3355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https://doc.fipi.ru/navigator-podgotovki/navigator-ege/MR_rus_yaz_ege_2024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Google Shape;284;p4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Google Shape;285;p41"/>
          <p:cNvSpPr/>
          <p:nvPr/>
        </p:nvSpPr>
        <p:spPr>
          <a:xfrm>
            <a:off x="0" y="22986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Google Shape;286;p41"/>
          <p:cNvSpPr/>
          <p:nvPr/>
        </p:nvSpPr>
        <p:spPr>
          <a:xfrm>
            <a:off x="1038240" y="0"/>
            <a:ext cx="76122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tserrat"/>
                <a:ea typeface="Montserrat"/>
              </a:rPr>
              <a:t>Рекоменд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внимательно читать формулировку задания – слова с Н или Н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ить исклю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проверять наличие / отсутствие зависимых слов у отглагольных прил./ при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удё(1)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тер с Оки, редкие прохожие идут, путаясь в полах шуб и шерстя(2)ых пальто, а дóма тепло, рассыпается серебря(3)ым колокольчиком канарейка в клетке, на кухне ждёт чайник из костя(4)ого фарфора, изумруд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ыжове(5)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ренье положе(6)о в хрустальную розетку, и на вяза(7)ой крючком кипенно-белой скатерти сияет золочё(8)ая ложе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Google Shape;300;p4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Google Shape;301;p43"/>
          <p:cNvSpPr/>
          <p:nvPr/>
        </p:nvSpPr>
        <p:spPr>
          <a:xfrm>
            <a:off x="0" y="211284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Google Shape;302;p43"/>
          <p:cNvSpPr/>
          <p:nvPr/>
        </p:nvSpPr>
        <p:spPr>
          <a:xfrm>
            <a:off x="1447920" y="271440"/>
            <a:ext cx="7202520" cy="42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рактика показывает, что ребята часто допускают ошибку в постановке знаков препинания в предложениях, требующих различения однородных и неоднородных определений, выраженных причастным оборотом и одиночным прилагательным (причастием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Снежные сугробы покрылись тонкой, едва видимой кор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Анна взглянула на Вронского улыбнулась ему веселой, обещающей радость улыбкой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Порыжевшая, выжженная солнцем трава выглядела жалк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 падает на землю оторвавшийся от ветки кленовый лис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собое внимание предложен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двора раздались громкие встревоженные голоса и сразу же послышался детский пла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7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обирали в лесу не только грибы, но и бруснику и голуби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Google Shape;316;p4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Google Shape;317;p45"/>
          <p:cNvSpPr/>
          <p:nvPr/>
        </p:nvSpPr>
        <p:spPr>
          <a:xfrm>
            <a:off x="0" y="21844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Google Shape;318;p45"/>
          <p:cNvSpPr/>
          <p:nvPr/>
        </p:nvSpPr>
        <p:spPr>
          <a:xfrm>
            <a:off x="1447920" y="271440"/>
            <a:ext cx="720252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атываем с ребя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омонимичных конструкций со словами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может быть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возможно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личение функций слова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однак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дентификацию слов и конструкций как вводных: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 словам Е. Трубецкой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к моему удивлению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следовательно»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«значит» 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ИЗУЧАЕМ СЛОВА, КОТОРЫЕ НЕ ОТНОСЯТСЯ К ВВОД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!ЯК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Google Shape;90;p18"/>
          <p:cNvSpPr/>
          <p:nvPr/>
        </p:nvSpPr>
        <p:spPr>
          <a:xfrm>
            <a:off x="25236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Google Shape;91;p18"/>
          <p:cNvSpPr/>
          <p:nvPr/>
        </p:nvSpPr>
        <p:spPr>
          <a:xfrm>
            <a:off x="0" y="2228760"/>
            <a:ext cx="98568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Google Shape;92;p18" descr=""/>
          <p:cNvPicPr/>
          <p:nvPr/>
        </p:nvPicPr>
        <p:blipFill>
          <a:blip r:embed="rId1"/>
          <a:stretch/>
        </p:blipFill>
        <p:spPr>
          <a:xfrm>
            <a:off x="1384200" y="274680"/>
            <a:ext cx="7332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Google Shape;324;p46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Google Shape;325;p46"/>
          <p:cNvSpPr/>
          <p:nvPr/>
        </p:nvSpPr>
        <p:spPr>
          <a:xfrm>
            <a:off x="0" y="215568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Google Shape;326;p46"/>
          <p:cNvSpPr/>
          <p:nvPr/>
        </p:nvSpPr>
        <p:spPr>
          <a:xfrm>
            <a:off x="1163520" y="372960"/>
            <a:ext cx="747072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овторя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жноподчинённые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едложения с несколькими придаточными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, связанными последовательной, параллельной и  однородной связь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олько вдруг почему-то всем представилось, как приходил Бозин домой, как садился за стол, ел суп или пил чай и на него, закутавшись в мягкий пух облака, своими чистыми и добрыми глазами смотрел ангел, словно сыночек, дождавшийся своего от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ontserrat"/>
              </a:rPr>
              <a:t>!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оняла со всей ясностью (1) что случилось именно то (2) о чём утром говорило предчувствие (3) и (4) что она покидает особняк и прежнюю свою жизнь навсе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Google Shape;332;p47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Google Shape;333;p47"/>
          <p:cNvSpPr/>
          <p:nvPr/>
        </p:nvSpPr>
        <p:spPr>
          <a:xfrm>
            <a:off x="0" y="209556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Google Shape;334;p47"/>
          <p:cNvSpPr/>
          <p:nvPr/>
        </p:nvSpPr>
        <p:spPr>
          <a:xfrm>
            <a:off x="1447920" y="271440"/>
            <a:ext cx="72025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Осложняющим фактором при выполнении задания 20 традиционно является </a:t>
            </a:r>
            <a:r>
              <a:rPr b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стык союзов (союзных средств)</a:t>
            </a:r>
            <a:r>
              <a:rPr b="0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Ребенок имеет право быть тем (1) кто он есть </a:t>
            </a:r>
            <a:r>
              <a:rPr b="1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(2) и (3) если </a:t>
            </a:r>
            <a:r>
              <a:rPr b="0" i="1" lang="en-US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ы хотим быть честными (4) то не надо ждать (5) чтобы он стал совершенным человеком (По Я. Корчак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Montserrat"/>
                <a:ea typeface="Montserrat"/>
              </a:rPr>
              <a:t>Много работаем с текс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50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Google Shape;340;p4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Google Shape;341;p48"/>
          <p:cNvSpPr/>
          <p:nvPr/>
        </p:nvSpPr>
        <p:spPr>
          <a:xfrm>
            <a:off x="0" y="185580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Google Shape;342;p48"/>
          <p:cNvSpPr/>
          <p:nvPr/>
        </p:nvSpPr>
        <p:spPr>
          <a:xfrm>
            <a:off x="1447920" y="271440"/>
            <a:ext cx="72025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неумение отличить один случай постановки знака препинания от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обособления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ложения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знаком тире и постановки тире между подлежащим и сказу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6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мешение случаев постановки двоеточия при однородных членах с обобщающим словом и постановки двоеточия в Б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над грамматической основой предложения, ищем ПО, ДО, О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Google Shape;380;p5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Google Shape;381;p53"/>
          <p:cNvSpPr/>
          <p:nvPr/>
        </p:nvSpPr>
        <p:spPr>
          <a:xfrm>
            <a:off x="0" y="26989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Google Shape;382;p53"/>
          <p:cNvSpPr/>
          <p:nvPr/>
        </p:nvSpPr>
        <p:spPr>
          <a:xfrm>
            <a:off x="1317600" y="169920"/>
            <a:ext cx="720252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лексический повтор + анализ его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антитеза + анализ её фун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выбор соответствующих терминов, называющих перенос признаков по смежности (метоним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силение признака в исходном макротексте (града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счленение (дробление) единой фразы на отдельные части (парцелля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68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Обращаем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внимание на выделение курс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не путать анафору и многосоюз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РАБОТАЕМ СО СПИСКОМ ИВС НА САЙТЕ РЕШУ.ЕГ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Google Shape;372;p52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Google Shape;373;p52"/>
          <p:cNvSpPr/>
          <p:nvPr/>
        </p:nvSpPr>
        <p:spPr>
          <a:xfrm>
            <a:off x="0" y="1109520"/>
            <a:ext cx="10508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Google Shape;374;p52"/>
          <p:cNvSpPr/>
          <p:nvPr/>
        </p:nvSpPr>
        <p:spPr>
          <a:xfrm>
            <a:off x="1447920" y="271440"/>
            <a:ext cx="72025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Чаще всего выпускники испытывают трудности при определении фразеологизмов как раз в тех случаях, когда фразеологический оборот является </a:t>
            </a: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ривычным для повседневной разговорной ре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5"/>
          <p:cNvSpPr/>
          <p:nvPr/>
        </p:nvSpPr>
        <p:spPr>
          <a:xfrm>
            <a:off x="1127160" y="2209680"/>
            <a:ext cx="7883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1)Кружила январская метелица, скрипели мёрзлые тополя в переулке, верховой ветер гремел железом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о и де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рывал снежную пыль с карнизов, нёс её вдоль побелённых заборов, над свежими сугробами, а оно, это единственное в ночи окно, светилось зелёным уютным пятном и, всегда одинаково яркое, тёплое, занавешенное, притягивало к себе, вызывало приятное ощущение неразгаданной тайны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"(25)Нет мудрости в том, что кто-то, завидев прекрасное, бросается к нему, присоединяет к себе и делает своей собственностью: эта собственность неминуемо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рано или поздн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делает его своим рабом. (26)Настоящая мудрость приходит к человеку, когда, завидев прекрасное, он не бросается к нему, а собирает друзей и показывает. (27)Тогда прекрасное само приходит к нему, как к хозяину своему и другу, и свободно садится со всеми за стол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11040" y="1152360"/>
            <a:ext cx="85219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TextBox 3"/>
          <p:cNvSpPr/>
          <p:nvPr/>
        </p:nvSpPr>
        <p:spPr>
          <a:xfrm>
            <a:off x="1278000" y="150984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Google Shape;106;p20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Google Shape;107;p20"/>
          <p:cNvSpPr/>
          <p:nvPr/>
        </p:nvSpPr>
        <p:spPr>
          <a:xfrm>
            <a:off x="0" y="244152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Google Shape;108;p20"/>
          <p:cNvSpPr/>
          <p:nvPr/>
        </p:nvSpPr>
        <p:spPr>
          <a:xfrm>
            <a:off x="1216080" y="222120"/>
            <a:ext cx="7564320" cy="32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Повторяем и отрабатыв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определен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стилевой принадле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тек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SzPct val="4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незнание лингвистическо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терминологи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ontserrat"/>
              </a:rPr>
              <a:t> (отглагольная лексика, абстрактная лексика, канцеляризм, термин, книжная лексика, разговорная лексика, имя существительное в родительном падеже, неполное предложение, односоставное предло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Google Shape;114;p21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Google Shape;115;p21"/>
          <p:cNvSpPr/>
          <p:nvPr/>
        </p:nvSpPr>
        <p:spPr>
          <a:xfrm>
            <a:off x="0" y="209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Google Shape;116;p21"/>
          <p:cNvSpPr/>
          <p:nvPr/>
        </p:nvSpPr>
        <p:spPr>
          <a:xfrm>
            <a:off x="1154160" y="133200"/>
            <a:ext cx="7496280" cy="44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Системно провожу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орфоэпическую разминку, причем слова должны именно звучать, а не быть просто написанными или напечатан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❗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Систему упражнений также важно строить не на решении однотипных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 (по типу ЕГЭ) задани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1)  на готовом материале, например, разучивание слов с готовыми ударениями и распределение их на группы по какому-либо признаку (ударение на первом слоге, на втором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2)  на усложненном материале, например расставить ударения и определить, по какому принципу сгруппированы слова, и распределить слова на группы в зависимости от уда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3)  в нестандартных ситуациях, например составление предложений и текста, включающих слова, которые вызывают трудности в произношении, и составление тестов по теме</a:t>
            </a: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	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Picture background"/>
          <p:cNvPicPr/>
          <p:nvPr/>
        </p:nvPicPr>
        <p:blipFill>
          <a:blip r:embed="rId1"/>
          <a:stretch/>
        </p:blipFill>
        <p:spPr>
          <a:xfrm>
            <a:off x="1031760" y="0"/>
            <a:ext cx="7313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Google Shape;130;p23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Google Shape;131;p23"/>
          <p:cNvSpPr/>
          <p:nvPr/>
        </p:nvSpPr>
        <p:spPr>
          <a:xfrm>
            <a:off x="0" y="25383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Google Shape;132;p23"/>
          <p:cNvSpPr/>
          <p:nvPr/>
        </p:nvSpPr>
        <p:spPr>
          <a:xfrm>
            <a:off x="1447920" y="271440"/>
            <a:ext cx="72025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е паронимические па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еличина — вели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граничить — отграни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SzPct val="61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раздражительность — 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ключаем задания, связанные с паронимией, в комплексное повторение морфологии, лексики, орфографии — навык различать оттенки паронимов и грамотно употреблять их в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Ориентируемся на сборник паронимов  по материалам ФИП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Google Shape;138;p24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Google Shape;139;p24"/>
          <p:cNvSpPr/>
          <p:nvPr/>
        </p:nvSpPr>
        <p:spPr>
          <a:xfrm>
            <a:off x="0" y="22287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Google Shape;140;p24"/>
          <p:cNvSpPr/>
          <p:nvPr/>
        </p:nvSpPr>
        <p:spPr>
          <a:xfrm>
            <a:off x="1447920" y="271440"/>
            <a:ext cx="720252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ый плеоназм (исключить лишне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перспективы буду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Поделись праздником со всеми! -  таков ведущий лейтмотив фотовыставки «Россия – Родина мо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ая замена слова (лексическая сочетаемость, заменить неверно употреблённое слово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SzPct val="68000"/>
              <a:buFont typeface="Montserrat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Montserrat"/>
                <a:ea typeface="Montserrat"/>
              </a:rPr>
              <a:t>«Два месяца назад я приехал в родной город, чтобы осуществить редакционное задание, и внезапно принял решение остаться на родине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Google Shape;149;p25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Google Shape;150;p25"/>
          <p:cNvSpPr/>
          <p:nvPr/>
        </p:nvSpPr>
        <p:spPr>
          <a:xfrm>
            <a:off x="0" y="232560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Google Shape;151;p25"/>
          <p:cNvSpPr/>
          <p:nvPr/>
        </p:nvSpPr>
        <p:spPr>
          <a:xfrm>
            <a:off x="1447920" y="271440"/>
            <a:ext cx="72025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собое внимание следует уделить верному </a:t>
            </a:r>
            <a:r>
              <a:rPr b="1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оформлению исправленного слова</a:t>
            </a:r>
            <a:r>
              <a:rPr b="0" lang="en-US" sz="1200" spc="-1" strike="noStrike">
                <a:solidFill>
                  <a:srgbClr val="000000"/>
                </a:solidFill>
                <a:latin typeface="Montserrat"/>
                <a:ea typeface="Montserrat"/>
              </a:rPr>
              <a:t> в бланке ответов: запись слова с учётом всех норм современного русского языка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Montserrat"/>
                <a:ea typeface="Montserrat"/>
              </a:rPr>
              <a:t>в том числе и орфографическ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2" descr="Picture background"/>
          <p:cNvPicPr/>
          <p:nvPr/>
        </p:nvPicPr>
        <p:blipFill>
          <a:blip r:embed="rId1"/>
          <a:stretch/>
        </p:blipFill>
        <p:spPr>
          <a:xfrm>
            <a:off x="1492200" y="1069920"/>
            <a:ext cx="569916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Google Shape;180;p28"/>
          <p:cNvSpPr/>
          <p:nvPr/>
        </p:nvSpPr>
        <p:spPr>
          <a:xfrm>
            <a:off x="149400" y="271440"/>
            <a:ext cx="75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Google Shape;181;p28"/>
          <p:cNvSpPr/>
          <p:nvPr/>
        </p:nvSpPr>
        <p:spPr>
          <a:xfrm>
            <a:off x="0" y="2725560"/>
            <a:ext cx="1050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ontserrat"/>
                <a:ea typeface="Montserrat"/>
              </a:rPr>
              <a:t>ЗАДАНИЕ 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Google Shape;182;p28"/>
          <p:cNvSpPr/>
          <p:nvPr/>
        </p:nvSpPr>
        <p:spPr>
          <a:xfrm>
            <a:off x="1198440" y="195120"/>
            <a:ext cx="7785360" cy="29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Трудности с идентификацией вида грамматической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ontserrat"/>
                <a:ea typeface="Montserrat"/>
              </a:rPr>
              <a:t>Отработка ум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труктурируем предложения, выделяя главные ч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графически выделяем оборот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учим видеть </a:t>
            </a:r>
            <a:r>
              <a:rPr b="1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слова-маркёры</a:t>
            </a: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 (несогласованное приложение, обороты, однородные члены) и выделя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50000"/>
              <a:buFont typeface="Montserra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tserrat"/>
                <a:ea typeface="Montserrat"/>
              </a:rPr>
              <a:t>медленное смысловое чтение каждого предложения в правой колонке таблицы и каждого тезиса в 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УМЦ</cp:lastModifiedBy>
  <dcterms:modified xsi:type="dcterms:W3CDTF">2025-04-09T06:30:53Z</dcterms:modified>
  <cp:revision>4</cp:revision>
  <dc:subject/>
  <dc:title>Слайд 1</dc:title>
</cp:coreProperties>
</file>